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10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932B61-B4FF-490E-AEB4-71B2AE949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5557E5-760E-4922-B192-0CFBFACB6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7D19-2917-431F-B579-CAB375968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0309-2446-4018-871D-7331D6487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BB93-F56F-4A8A-A413-0F064CBB5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3FDC-5C9B-4860-8896-34FCD1F26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C3FA-4C40-43ED-A604-216812D60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ABC3-EA73-47DE-A4B7-F948402AD5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29505-5FA9-4BE0-A793-A2A7FC9545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3619-C1B5-4647-90FD-7EF6CD453E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BAE1-749C-41B2-8CBB-B342A7AB81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E7B5D-4291-4568-AD7A-110ED6DE5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E698-4316-4504-8CE9-D56C91BF90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92C4E-38BB-4D89-B00F-22333A2955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85DD-8059-4B8D-AE79-2CF69A9DF5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CF38E-5480-467E-906A-5C429E3F47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67165-508A-4BE7-8AC9-741C5F2F48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8C582-0A46-4CA6-AD8C-A87ECF2969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36546-042D-452C-83C9-CFD4D918F4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27BD-E6FC-4156-ABD9-80BC2696FF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2DEC-5865-4842-8FFF-51034E2879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B6C-A22A-4493-86AD-1B5EE9B827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71E5-EFE7-45BA-8EAE-EB3F84AD2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9439-FB6B-4993-83D1-A6B36A0C0B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4569-82DF-4174-9106-F9AB46F085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7480-1208-426D-92DD-751AEB120F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D35B-D23B-4D9B-B3DC-274EB16C92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D7E1-1F30-4E5C-9373-067EDDDFFC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9955-C455-4142-BC16-E91D49EAD1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ED8A-046F-4FC5-8E58-8B01F3FB37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35F6-41A4-4204-8DBD-D7B4A588B2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C84-9393-4911-ABC7-F65B7A1818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24E7-C166-45EE-A4EB-BB456F8DCA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9315-B1EC-448B-84DA-9E5B7D0DCF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A5DC-E42F-40DB-A5A3-E168924F3A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DB2E-3EA1-4351-9FC7-773C73995B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F59CE-232B-46F4-9B83-B46F004E0E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CED11-4FD4-41D0-987C-1244BF9018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4AD7E-4030-41F2-9D04-8571D284A2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14BAF-B528-404F-BB87-1D9BCE4DBC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2D3C7-A713-4503-917B-ACB325EA90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77343-164F-4C28-9D2B-4F2E7A753F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3E6C9-967D-4466-9078-3CB183761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A242-30D4-4E95-A3F6-1CF4966AEC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B0FA6-4256-41BA-B338-4F019D8418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4F2C7-0FCF-4872-9C13-B76E401B59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3E5C4-6773-4A94-93B7-2969D05F98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61885-2065-4DC9-BF26-12FD2345E4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9A901-31BD-4880-8815-5772E45BF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24BE-AABE-456F-A0A1-6685505B3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05F8-4D66-4917-B024-6C5FB24A5BCA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43080" indent="-343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43080" indent="-3430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43080" indent="-3430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43080" indent="-34308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46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35640" indent="-3564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35640" indent="-3564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35640" indent="-3564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D99-0351-4C90-A602-0BB3BDDBFED2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552-43C9-4E8E-8FD9-E21208DC63A6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39480" indent="-3394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339480" indent="-3394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339480" indent="-33948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339480" indent="-339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213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35640" indent="-3564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35640" indent="-3564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35640" indent="-3564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35640" indent="-3564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Chapter 2 – The Balance Sheet l  00/00/00 |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Times New Roman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A69E-2AB0-4632-B968-DCD534AD662A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632-3C2F-4322-8400-6097C06B8DAC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hapter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Balance Shee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68520" y="2009520"/>
            <a:ext cx="815976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62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5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3357-2965-4D56-9F62-B1254E9D5A47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Calculate total assets and total liabilities and own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equity. They should match. Include a ruled line above the totals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4" name="Picture 4" descr="Ch2BalanceSheet10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0C3-B329-470A-A166-A7E57FED1BBB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Put two ruled lines below the two totals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8" name="Picture 4" descr="Ch2BalanceSheet11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8CAA-280E-4D35-8EDF-FFE07A82B11F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Add dollar signs to the first number in each column, the total assets, and the total liabilities and equity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52" name="Picture 4" descr="Ch2BalanceSheet12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BFBA-FD52-4A50-9D23-EB468D3A864C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tutorial guides you through the basic steps of creating a balance sheet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more detailed instructions, refer to Section 2.2 of the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Accounting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xtbook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7FF-7AAA-4AFA-976C-40E7955EE0FE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Write the heading: Who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16" name="Picture 4" descr="Ch2BalanceSheet2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B5A-1818-4805-854C-C76FC4B286BA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Write the heading: Who, What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20" name="Picture 4" descr="Ch2BalanceSheet3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7FF-2BAC-4161-BB75-F9873B89C30D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Write the heading: Who, What, When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24" name="Picture 4" descr="Ch2BalanceSheet4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FEE-EAA9-41E7-AAE9-CE1E9E3ED245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Under the Assets subheading, list all assets in order of liquidity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28" name="Picture 4" descr="Ch2BalanceSheet6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2F9-47A4-4347-A736-36EF5C70E81A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Under the Liabilities subheading, list all liabilities in the order they are due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32" name="Picture 4" descr="Ch2BalanceSheet8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A445-5EBF-4799-9F01-0F45EE437C47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Subheadings with more than one item must be totalled. Total the liabilities with a ruled line above the total. 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36" name="Picture 4" descr="Ch2BalanceSheet9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Chapter 2 – The Balance Sheet l Accounting 1, 7</a:t>
            </a:r>
            <a:r>
              <a:rPr b="0" lang="en-GB" sz="900" spc="-1" strike="noStrike" baseline="30000">
                <a:solidFill>
                  <a:srgbClr val="fbf5ea"/>
                </a:solidFill>
                <a:latin typeface="Verdana"/>
              </a:rPr>
              <a:t>th</a:t>
            </a:r>
            <a:r>
              <a:rPr b="0" lang="en-GB" sz="900" spc="-1" strike="noStrike">
                <a:solidFill>
                  <a:srgbClr val="fbf5ea"/>
                </a:solidFill>
                <a:latin typeface="Verdana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E25D-0F81-47F8-8795-03F0FF084D88}" type="slidenum">
              <a:rPr b="0" lang="en-GB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Balance Sheet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Under the Own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Equity subheading, record the Capital amount.</a:t>
            </a:r>
            <a:endParaRPr b="1" lang="en-US" sz="20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0" name="Picture 5" descr="Ch2BalanceSheet7-2.jpg"/>
          <p:cNvPicPr/>
          <p:nvPr/>
        </p:nvPicPr>
        <p:blipFill>
          <a:blip r:embed="rId1"/>
          <a:stretch/>
        </p:blipFill>
        <p:spPr>
          <a:xfrm>
            <a:off x="1352520" y="2060640"/>
            <a:ext cx="7201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23Z</dcterms:created>
  <dc:creator>rosimerr</dc:creator>
  <dc:description>Built by: www.mediasterling.com</dc:description>
  <dc:language>en-US</dc:language>
  <cp:lastModifiedBy>Les MacKay - STC</cp:lastModifiedBy>
  <dcterms:modified xsi:type="dcterms:W3CDTF">2015-02-06T19:42:56Z</dcterms:modified>
  <cp:revision>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4</vt:lpwstr>
  </property>
</Properties>
</file>